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8624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546960" y="119844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2552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8624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546960" y="3755160"/>
            <a:ext cx="291456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3360" y="333000"/>
            <a:ext cx="74869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4120" y="375516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198440"/>
            <a:ext cx="441720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5520" y="3755160"/>
            <a:ext cx="9051840" cy="23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II_rahmen_neu_folge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764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-276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95560" indent="-276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95560" indent="-27612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6513480" y="6453360"/>
            <a:ext cx="2963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stitute for Data Processing and Electronics (IP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271440" y="6445080"/>
            <a:ext cx="352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1459-8DC5-4553-9319-3BB9C2ECD371}" type="slidenum">
              <a:rPr b="1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63480" y="6445080"/>
            <a:ext cx="93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42840" y="6444720"/>
            <a:ext cx="46018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KITlogo_4c_frutiger"/>
          <p:cNvPicPr/>
          <p:nvPr/>
        </p:nvPicPr>
        <p:blipFill>
          <a:blip r:embed="rId10"/>
          <a:stretch/>
        </p:blipFill>
        <p:spPr>
          <a:xfrm>
            <a:off x="8307360" y="341280"/>
            <a:ext cx="117324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846520" y="3662280"/>
            <a:ext cx="3979800" cy="2756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II_rahmen_neu_titel"/>
          <p:cNvPicPr/>
          <p:nvPr/>
        </p:nvPicPr>
        <p:blipFill>
          <a:blip r:embed="rId3"/>
          <a:stretch/>
        </p:blipFill>
        <p:spPr>
          <a:xfrm>
            <a:off x="0" y="0"/>
            <a:ext cx="9906120" cy="68706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4"/>
          <p:cNvSpPr/>
          <p:nvPr/>
        </p:nvSpPr>
        <p:spPr>
          <a:xfrm>
            <a:off x="430200" y="6475320"/>
            <a:ext cx="397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IT – University of the State of Baden-Wuerttemberg an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ational Laboratory of the Helmholtz Associ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417600" y="3367080"/>
            <a:ext cx="4914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titute for Sysnchrotronstrahlung (IS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4"/>
          <p:cNvSpPr/>
          <p:nvPr/>
        </p:nvSpPr>
        <p:spPr>
          <a:xfrm>
            <a:off x="7927920" y="6497640"/>
            <a:ext cx="187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www.kit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KIT-Logo-rgb_en"/>
          <p:cNvPicPr/>
          <p:nvPr/>
        </p:nvPicPr>
        <p:blipFill>
          <a:blip r:embed="rId4"/>
          <a:stretch/>
        </p:blipFill>
        <p:spPr>
          <a:xfrm>
            <a:off x="428760" y="333360"/>
            <a:ext cx="1753920" cy="747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21276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30456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438200" indent="38124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438200" indent="3812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2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2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271440" y="2060640"/>
            <a:ext cx="92455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 report: Design of UFO experimental station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30200" y="2349360"/>
            <a:ext cx="90676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enviro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e environmental conditions of sample during s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tomographic and laminographic 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ing point: mirror furnace from Universtiy of Frei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cussions with companies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erotech for sample and detector manip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ya for detecto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ussion with University of Freiburg concerning sample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urther refinement of specifications, especially RCI manipu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date concept dra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possibility to construct setup in-house (especially detector mechan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naliz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tup delivery Summ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unction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mography / Lamin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tom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cking Curve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in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CI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to mount all manip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able in beam line via air p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ired degrees of freedom: height, pitch, y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ight: compensate offset between white and monochromati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yaw: align detector translation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erform sc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ular design to cover broad demands for different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ample manipulator: Tomography/Lamin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int to point motion and slow continuous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below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tation, unlimited travel, large central aperture, 120 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vertical,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horizontal, &gt; 100 mm (flat fields, s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itch, &lt; +-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ll, &lt; +- 5 deg (align axis of rotation w. r. t. detector pixe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rge Roll, &gt; 60 deg (switch between tomography and laminography, RCI 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 above axis of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arallel to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lation perpendicular to the beam &gt; 100 mm (select region for tomography / laminograph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es as basis to mount module for additional imaging mod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High- speed tomograph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rate to high- speed tomogra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-speed rotation (6000 RP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constant speed range &gt; 50 mm (select sample height, spiral C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Rocking Curve Ima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an samples with high precision in 6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xapod mounted in central aper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Do: specify required travel ranges and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tector manipul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necessary degrees of freedom to position main detecto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ranslation parallel to beam, &gt; 1000 mm (select sample-detector dis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, &gt; 100 mm (compensate for small beam height offs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&gt; 100 mm (compensate switch from split to  not split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CI detector manip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ition detector for RCI sc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tical circle around sa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09600" indent="-276120"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ta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3360" y="333000"/>
            <a:ext cx="7486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dule: Sample Ch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25520" y="1198440"/>
            <a:ext cx="9051840" cy="489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4280" indent="-3142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able high throughput and sample batch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translation, perpendicular and parallel to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to be compatible with tomography and laminography samples of reasonable size (&lt; 30 mm di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mple changer design requires detailed design of detector and sample manipulator mecha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4280" indent="-3142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3142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pecific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07:34:55Z</dcterms:created>
  <dc:creator>FZK</dc:creator>
  <dc:description/>
  <dc:language>en-US</dc:language>
  <cp:lastModifiedBy>Tomy dos Santos Rolo</cp:lastModifiedBy>
  <dcterms:modified xsi:type="dcterms:W3CDTF">2011-07-04T07:47:57Z</dcterms:modified>
  <cp:revision>272</cp:revision>
  <dc:subject/>
  <dc:title>Folie 1</dc:title>
</cp:coreProperties>
</file>